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966900" cy="291639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820-26A5-47D0-94FE-C7D29B6E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3595536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04840" y="16862400"/>
            <a:ext cx="3595536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E6A-92B5-4A2B-AFE1-420AA80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0484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42856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D05-C498-40D6-9440-B52D3F99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161320" y="678636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317800" y="678636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04840" y="1686240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161320" y="1686240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317800" y="1686240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59D-D7B3-4F9B-B0C9-06B05F6A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04840" y="6786360"/>
            <a:ext cx="35955360" cy="192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3DB-6BBB-4A7D-9510-D63B51D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3595536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A37-E323-40B1-A469-66DEC611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208-16BA-4347-94F2-A124A7E2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8CC-78BC-4243-BA26-7D096298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165320"/>
            <a:ext cx="35955360" cy="2253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C43-D663-4D88-84B2-E322F2E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0484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6D9-5CED-481C-AAC2-AE5E6C1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42856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EDD-7965-457F-9941-CCC6E49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04840" y="16862400"/>
            <a:ext cx="3595536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D71-C887-4A28-8F78-D33EFF6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4840" y="6786360"/>
            <a:ext cx="3595536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marL="1477800" indent="-147780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1" marL="3213000" indent="-124128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2" marL="4932360" indent="-98280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3" marL="6915240" indent="-99396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4" marL="8877240" indent="-9889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5" marL="8877240" indent="-9889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6" marL="8877240" indent="-9889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4840" y="26583840"/>
            <a:ext cx="9320400" cy="1971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Autofit/>
          </a:bodyPr>
          <a:lstStyle>
            <a:lvl1pPr indent="0">
              <a:buNone/>
              <a:tabLst>
                <a:tab algn="l" pos="0"/>
                <a:tab algn="l" pos="3949560"/>
                <a:tab algn="l" pos="7899480"/>
              </a:tabLst>
              <a:defRPr b="0" lang="zh-CN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949560"/>
                <a:tab algn="l" pos="789948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653720" y="26583840"/>
            <a:ext cx="12657240" cy="1971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Autofit/>
          </a:bodyPr>
          <a:lstStyle>
            <a:lvl1pPr indent="0" algn="ctr">
              <a:buNone/>
              <a:tabLst>
                <a:tab algn="l" pos="0"/>
                <a:tab algn="l" pos="3949560"/>
                <a:tab algn="l" pos="7899480"/>
              </a:tabLst>
              <a:defRPr b="0" lang="zh-CN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39800" y="26583840"/>
            <a:ext cx="9320040" cy="1971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Autofit/>
          </a:bodyPr>
          <a:lstStyle>
            <a:lvl1pPr indent="0" algn="r">
              <a:buNone/>
              <a:tabLst>
                <a:tab algn="l" pos="0"/>
                <a:tab algn="l" pos="3949560"/>
                <a:tab algn="l" pos="7899480"/>
              </a:tabLst>
              <a:defRPr b="0" lang="zh-CN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949560"/>
                <a:tab algn="l" pos="7899480"/>
              </a:tabLst>
            </a:pPr>
            <a:fld id="{F47A17A2-2E3E-41F3-AA26-14359DD49FCF}" type="slidenum">
              <a:rPr b="0" lang="zh-CN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9965400" cy="29163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bf5f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96640" rIns="296640" tIns="148320" bIns="148320" anchor="ctr">
            <a:noAutofit/>
          </a:bodyPr>
          <a:p>
            <a:pPr algn="ctr">
              <a:tabLst>
                <a:tab algn="l" pos="0"/>
                <a:tab algn="l" pos="3949560"/>
                <a:tab algn="l" pos="7899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" y="324000"/>
            <a:ext cx="25598520" cy="27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efe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2680" y="3205080"/>
            <a:ext cx="7340400" cy="45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ede62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52680" y="8532720"/>
            <a:ext cx="734508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e944d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7400" y="14582880"/>
            <a:ext cx="7345440" cy="7586640"/>
          </a:xfrm>
          <a:custGeom>
            <a:avLst/>
            <a:gdLst>
              <a:gd name="textAreaLeft" fmla="*/ 358560 w 7345440"/>
              <a:gd name="textAreaRight" fmla="*/ 6986880 w 7345440"/>
              <a:gd name="textAreaTop" fmla="*/ 358560 h 7586640"/>
              <a:gd name="textAreaBottom" fmla="*/ 7228080 h 7586640"/>
            </a:gdLst>
            <a:ahLst/>
            <a:rect l="textAreaLeft" t="textAreaTop" r="textAreaRight" b="textAreaBottom"/>
            <a:pathLst>
              <a:path w="21600" h="22309">
                <a:moveTo>
                  <a:pt x="3600" y="0"/>
                </a:moveTo>
                <a:arcTo wR="3600" hR="3600" stAng="16200000" swAng="-5400000"/>
                <a:lnTo>
                  <a:pt x="0" y="18709"/>
                </a:lnTo>
                <a:arcTo wR="3600" hR="3600" stAng="10800000" swAng="-5400000"/>
                <a:lnTo>
                  <a:pt x="18000" y="22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7676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3012280"/>
            <a:ext cx="7345080" cy="525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66"/>
              </a:gs>
              <a:gs pos="100000">
                <a:srgbClr val="e276ac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01680"/>
            <a:ext cx="28254240" cy="268956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spcBef>
                <a:spcPts val="60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1" lang="en-US" sz="9700" spc="-1" strike="noStrike">
                <a:solidFill>
                  <a:srgbClr val="663300"/>
                </a:solidFill>
                <a:latin typeface="Arial"/>
                <a:ea typeface="MS Gothic"/>
              </a:rPr>
              <a:t>Virtual Design System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9560"/>
                <a:tab algn="l" pos="789948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ost-effectively making hospital design a team eff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73280" y="3451320"/>
            <a:ext cx="73249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73280" y="9253440"/>
            <a:ext cx="73249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B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Principl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5760800"/>
            <a:ext cx="73231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C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2720" y="23391720"/>
            <a:ext cx="75643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Future research &amp; Opportunit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75960" y="3060720"/>
            <a:ext cx="1526544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re is a disconnect between the design team and the end-user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Physical mock-ups of room designs can be costly  and inflex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007640" y="8372520"/>
            <a:ext cx="15089040" cy="47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Make hospital design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to all stakeholder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Provide environmental information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cost-effectively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in the design proces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07640" y="14714640"/>
            <a:ext cx="14657400" cy="75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VDS seeks to create an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organic virtual mock-up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of proposed layouts to allow in-depth analysis.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We compared two evidence-based design alternatives for an exam room.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nteracting in the scenarios of each room for each model will allow users to evaluate which design is optimal.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74160" y="23799960"/>
            <a:ext cx="154828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Way-finding and educational benefits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nteraction in a socially-driven virtual environ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dvertising opportunitie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370840" y="7607160"/>
            <a:ext cx="3381120" cy="4170600"/>
          </a:xfrm>
          <a:prstGeom prst="rect">
            <a:avLst/>
          </a:prstGeom>
          <a:ln w="0">
            <a:noFill/>
          </a:ln>
          <a:effectLst>
            <a:outerShdw dist="252134" dir="2943158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071280" y="7597800"/>
            <a:ext cx="3336840" cy="4121280"/>
          </a:xfrm>
          <a:prstGeom prst="rect">
            <a:avLst/>
          </a:prstGeom>
          <a:ln w="0">
            <a:noFill/>
          </a:ln>
          <a:effectLst>
            <a:outerShdw dist="252134" dir="2943158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" descr="Children's Healthcare of Atlanta logo"/>
          <p:cNvPicPr/>
          <p:nvPr/>
        </p:nvPicPr>
        <p:blipFill>
          <a:blip r:embed="rId3"/>
          <a:stretch/>
        </p:blipFill>
        <p:spPr>
          <a:xfrm>
            <a:off x="35320320" y="26462160"/>
            <a:ext cx="3201840" cy="10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1791240" y="24949080"/>
            <a:ext cx="3241800" cy="140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5320320" y="24949080"/>
            <a:ext cx="3781440" cy="1860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43240" y="25309440"/>
            <a:ext cx="412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 thanks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0567240" y="26820720"/>
            <a:ext cx="47181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6498520" y="871560"/>
            <a:ext cx="13214520" cy="4786200"/>
            <a:chOff x="26498520" y="871560"/>
            <a:chExt cx="13214520" cy="4786200"/>
          </a:xfrm>
        </p:grpSpPr>
        <p:sp>
          <p:nvSpPr>
            <p:cNvPr id="64" name=""/>
            <p:cNvSpPr/>
            <p:nvPr/>
          </p:nvSpPr>
          <p:spPr>
            <a:xfrm>
              <a:off x="26498520" y="871560"/>
              <a:ext cx="67690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Contacting the team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1" lang="zh-CN" sz="4400" spc="-1" strike="noStrike">
                  <a:solidFill>
                    <a:srgbClr val="663300"/>
                  </a:solidFill>
                  <a:latin typeface="Arial"/>
                </a:rPr>
                <a:t>Yi Lu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College of Architec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PhD Candidate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Email: luyi@gatech.edu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Phone: 404.457.88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907240" y="1548000"/>
              <a:ext cx="68058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1" lang="zh-CN" sz="4400" spc="-1" strike="noStrike">
                  <a:solidFill>
                    <a:srgbClr val="663300"/>
                  </a:solidFill>
                  <a:latin typeface="Arial"/>
                </a:rPr>
                <a:t>Joe Rile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Health Systems Institu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Masters Candida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Email: jlrile@gmail.com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Phone: 843.813.489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2872320" y="14222520"/>
            <a:ext cx="5907240" cy="451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2872320" y="19621440"/>
            <a:ext cx="5904000" cy="451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823960" y="7453440"/>
            <a:ext cx="5327640" cy="41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daf5fe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50880" y="13717440"/>
            <a:ext cx="5327640" cy="41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daf5fe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823960" y="20054880"/>
            <a:ext cx="5327640" cy="41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daf5fe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255960" y="7740720"/>
            <a:ext cx="44830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Design tea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provide design propos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00320" y="14509800"/>
            <a:ext cx="46083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Virtual design syste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create an organic virtual mock-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327240" y="20918520"/>
            <a:ext cx="453708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End-user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valuate designs based on interacting in scenar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51240" y="11414160"/>
            <a:ext cx="1890720" cy="2530440"/>
          </a:xfrm>
          <a:prstGeom prst="downArrow">
            <a:avLst>
              <a:gd name="adj1" fmla="val 50000"/>
              <a:gd name="adj2" fmla="val 3345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95600" y="17965800"/>
            <a:ext cx="1890720" cy="2530440"/>
          </a:xfrm>
          <a:prstGeom prst="downArrow">
            <a:avLst>
              <a:gd name="adj1" fmla="val 50000"/>
              <a:gd name="adj2" fmla="val 3345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 flipH="1" rot="10800000">
            <a:off x="26823600" y="9576720"/>
            <a:ext cx="2160" cy="12818160"/>
          </a:xfrm>
          <a:prstGeom prst="bentConnector3">
            <a:avLst>
              <a:gd name="adj1" fmla="val -79800000"/>
            </a:avLst>
          </a:prstGeom>
          <a:ln w="190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31989600" y="11701440"/>
            <a:ext cx="4122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Design A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42680" y="11630160"/>
            <a:ext cx="4122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Design B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989600" y="12782520"/>
            <a:ext cx="41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KS model – Hughes Spal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09040" y="12714120"/>
            <a:ext cx="417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vised HKS model (different layout, same size roo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62480" y="10333080"/>
            <a:ext cx="713880" cy="12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edback to design team and make design improv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39600" y="27633600"/>
            <a:ext cx="138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Pediatric Health Center of the Future        2007-12  YL &amp; J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2:09:07Z</dcterms:created>
  <dc:creator>Lu, Yi</dc:creator>
  <dc:description/>
  <dc:language>en-US</dc:language>
  <cp:lastModifiedBy>Lu, Yi</cp:lastModifiedBy>
  <dcterms:modified xsi:type="dcterms:W3CDTF">2007-11-30T21:00:35Z</dcterms:modified>
  <cp:revision>8</cp:revision>
  <dc:subject/>
  <dc:title>Slide 1</dc:title>
</cp:coreProperties>
</file>